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753B-B7E3-49B5-B8CF-967D6B62C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6CB17-9513-4E7C-97BB-6ED485893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68566-A491-418A-BB40-7F4BC595D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68FB6-2DB9-403B-8BF6-7F97E3563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3E6E-661B-488E-8C48-7054D7ED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BD037-ED21-4269-A2EC-5B4A9C06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5CE9-5F75-4E76-90F7-74FE6EC0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8FCB-0971-4795-8D29-3318D3F4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7E758-98F3-4CBE-A9A4-0BC7E311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0276-C08B-4922-A25E-1F9A3E4C9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8100-188E-45D1-8285-851A6931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DD0B-5974-42B7-B911-C9A94DAC3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4F6B-CF60-456E-98CA-DE1088DE5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upload.wikimedia.org/wikipedia/commons/9/9f/Bianchi.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Bar_end"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6/6a/Dirtbike_on_sylt.jpg"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19320" y="3886200"/>
            <a:ext cx="6400800" cy="1752480"/>
          </a:xfrm>
          <a:prstGeom prst="rect">
            <a:avLst/>
          </a:prstGeom>
          <a:solidFill>
            <a:srgbClr val="ffffff"/>
          </a:solid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y Alfred Darb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Ride New 25-mile</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ountain Bike Trai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Veteran’s Park</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txBox="1"/>
          <p:nvPr/>
        </p:nvSpPr>
        <p:spPr>
          <a:xfrm>
            <a:off x="1905120" y="2438280"/>
            <a:ext cx="5267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Come Play in the Dirt</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3" name=""/>
          <p:cNvSpPr/>
          <p:nvPr/>
        </p:nvSpPr>
        <p:spPr>
          <a:xfrm rot="19203600">
            <a:off x="0" y="5714640"/>
            <a:ext cx="1447920" cy="11430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ountain Bik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a:t>
            </a:r>
            <a:endParaRPr b="0" lang="en-US" sz="3200" spc="-1" strike="noStrike">
              <a:solidFill>
                <a:srgbClr val="000000"/>
              </a:solidFill>
              <a:latin typeface="Arial"/>
            </a:endParaRPr>
          </a:p>
        </p:txBody>
      </p:sp>
      <p:pic>
        <p:nvPicPr>
          <p:cNvPr id="46" name="" descr="Close this window."/>
          <p:cNvPicPr/>
          <p:nvPr/>
        </p:nvPicPr>
        <p:blipFill>
          <a:blip r:embed="rId2"/>
          <a:stretch/>
        </p:blipFill>
        <p:spPr>
          <a:xfrm>
            <a:off x="990720" y="2209680"/>
            <a:ext cx="3771720" cy="2230560"/>
          </a:xfrm>
          <a:prstGeom prst="rect">
            <a:avLst/>
          </a:prstGeom>
          <a:ln w="0">
            <a:noFill/>
          </a:ln>
        </p:spPr>
      </p:pic>
      <p:pic>
        <p:nvPicPr>
          <p:cNvPr id="47" name="" descr="File:Bianchi.JPG">
            <a:hlinkClick r:id="rId3"/>
          </p:cNvPr>
          <p:cNvPicPr/>
          <p:nvPr/>
        </p:nvPicPr>
        <p:blipFill>
          <a:blip r:embed="rId4"/>
          <a:stretch/>
        </p:blipFill>
        <p:spPr>
          <a:xfrm>
            <a:off x="5181480" y="2209680"/>
            <a:ext cx="3353040" cy="2514600"/>
          </a:xfrm>
          <a:prstGeom prst="rect">
            <a:avLst/>
          </a:prstGeom>
          <a:ln w="0">
            <a:noFill/>
          </a:ln>
        </p:spPr>
      </p:pic>
    </p:spTree>
  </p:cSld>
  <p:transition spd="slow">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 Of mountain bik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untain bike or mountain bicycle (abbreviated MTB or ATB (all terrain bicycle)) is a bicycle designed for off-road cycling, including jumps, and traversing of rocks and washouts, and steep declines, either on dirt trails, logging roads, or other unpaved environments. Bicycles typically used for mountain biking need to be able to withstand off-road use and the surmounting of obstacles such as logs and rocks. </a:t>
            </a:r>
            <a:endParaRPr b="0" lang="en-US" sz="2800" spc="-1" strike="noStrike">
              <a:solidFill>
                <a:srgbClr val="000000"/>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ountain bikes use 26 inch (559 mm) bicycle wheels with wide, knobby tires for extra traction and shock absorption. In the current century, front wheel suspension has become the norm and full front and rear suspension has become increasingly common. Some mountain bikes are also fitted with bar</a:t>
            </a:r>
            <a:r>
              <a:rPr b="0" lang="en-US" sz="3200" spc="-1" strike="noStrike" u="sng">
                <a:solidFill>
                  <a:srgbClr val="009999"/>
                </a:solidFill>
                <a:uFillTx/>
                <a:latin typeface="Arial"/>
                <a:hlinkClick r:id="rId2"/>
              </a:rPr>
              <a:t> </a:t>
            </a:r>
            <a:r>
              <a:rPr b="0" lang="en-US" sz="3200" spc="-1" strike="noStrike" u="sng">
                <a:solidFill>
                  <a:srgbClr val="000000"/>
                </a:solidFill>
                <a:uFillTx/>
                <a:latin typeface="Arial"/>
              </a:rPr>
              <a:t>ends on the handlebars to give extra leverage for hill-climbing.</a:t>
            </a:r>
            <a:endParaRPr b="0" lang="en-US" sz="32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development of the sport in the 1970s, many new subtypes of mountain biking have developed, such as cross-country (XC) biking, all-day endurance biking, Free ride-biking, downhill mountain biking, and a variety of track and slalom competitions. Each of these place different demands on the bike requiring different designs to suit them. MTB development has included an increase in gearing, up to 27 speeds, to facilitate climbing and rapid descents. Other developments have included disc instead of cantilever or V-brakes.</a:t>
            </a:r>
            <a:endParaRPr b="0" lang="en-US" sz="2800" spc="-1" strike="noStrike">
              <a:solidFill>
                <a:srgbClr val="000000"/>
              </a:solidFill>
              <a:latin typeface="Arial"/>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of the mountain bike includes contributions from cycle-cross in Europe, the Rough stuff Fellowship in the UK. The mountain bike was created in California. It was a modified heavy cruiser bicycles used for freewheeling down mountain trails in Marin County, California. However, it was not until the late 1970s and early 1980s that road bicycle companies started to manufacture mountain bicycles using high-tech lightweight materials. Throughout the 1990s and 2000s, mountain biking moved from a little-known sport to a mainstream activity. </a:t>
            </a:r>
            <a:endParaRPr b="0" lang="en-US" sz="2800" spc="-1" strike="noStrike">
              <a:solidFill>
                <a:srgbClr val="000000"/>
              </a:solidFill>
              <a:latin typeface="Arial"/>
            </a:endParaRPr>
          </a:p>
        </p:txBody>
      </p:sp>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Ova</a:t>
            </a:r>
            <a:endParaRPr b="0" lang="en-US" sz="3200" spc="-1" strike="noStrike">
              <a:solidFill>
                <a:srgbClr val="000000"/>
              </a:solidFill>
              <a:latin typeface="Arial"/>
            </a:endParaRPr>
          </a:p>
        </p:txBody>
      </p:sp>
      <p:pic>
        <p:nvPicPr>
          <p:cNvPr id="58" name="" descr="File:Dirtbike on sylt.jpg">
            <a:hlinkClick r:id="rId2"/>
          </p:cNvPr>
          <p:cNvPicPr/>
          <p:nvPr/>
        </p:nvPicPr>
        <p:blipFill>
          <a:blip r:embed="rId3"/>
          <a:stretch/>
        </p:blipFill>
        <p:spPr>
          <a:xfrm>
            <a:off x="3733920" y="2819520"/>
            <a:ext cx="4952880" cy="3300120"/>
          </a:xfrm>
          <a:prstGeom prst="rect">
            <a:avLst/>
          </a:prstGeom>
          <a:ln w="0">
            <a:noFill/>
          </a:ln>
        </p:spPr>
      </p:pic>
      <p:sp>
        <p:nvSpPr>
          <p:cNvPr id="59" name=""/>
          <p:cNvSpPr txBox="1"/>
          <p:nvPr/>
        </p:nvSpPr>
        <p:spPr>
          <a:xfrm>
            <a:off x="4648320" y="1905120"/>
            <a:ext cx="27432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Itz OVA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slow">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5:57:12Z</dcterms:created>
  <dc:creator>772617</dc:creator>
  <dc:description/>
  <dc:language>en-US</dc:language>
  <cp:lastModifiedBy>772617</cp:lastModifiedBy>
  <dcterms:modified xsi:type="dcterms:W3CDTF">2009-03-31T15:40:48Z</dcterms:modified>
  <cp:revision>2</cp:revision>
  <dc:subject/>
  <dc:title>Mountain Bikes </dc:title>
</cp:coreProperties>
</file>